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077075" cy="9371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77600" cy="9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01004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96640" y="703440"/>
            <a:ext cx="4684680" cy="351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890064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4010040" y="890064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14DD3F6-5315-4001-95C2-0FB1F31AE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F64581A-9281-4419-8354-CCCF4FDF8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AD7A6FA-2561-4D35-8E9D-F4EEC567B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71A1FE4-FA0B-47C4-B180-01C13B822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9C5E693-647A-4DF0-B725-E19954059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1EE65C3-A948-461A-BB00-6DA87834B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5642071-05D5-4180-8BF4-79BEFC11F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6580443-9708-462E-8293-C2A1A45FD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136B008-EA3D-44DF-B41F-908CE592C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6EAAC3E-DC33-46C4-977F-EB20CE6B4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F27AD10-1856-4624-9220-7CB04D286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89630AD-02A6-45A7-91F3-55FBC7845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2FEA994-97B7-42DB-9BC3-D6A1AD21B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01C668B-477B-453D-922B-9188639BB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8A9227D-C856-435E-8C00-F2E4CC1EC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0A4BC27-D7F0-46BF-8DD1-A74825AB5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8EAF452-DB22-4A9E-9888-032862550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805EC3E-BBB3-48BD-B300-242362D81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75E18D8-1C9F-4721-97D7-E05807E15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E98A62D-4F74-4257-BFC1-A03DDD784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4D2EED9-46B2-4680-A1F2-91786BC0E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1878DDA-FF87-41BF-AAAF-26519C14A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82EC4E1-35A1-4E90-A6D7-EDCEEE85A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70E6177-10F2-4F98-989C-5662B56E8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89111D1-EF9A-4FEE-B73F-BC42B5914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EB9857E-9154-40D5-AF16-DD1C3989B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0A1AE-114D-4217-9A9A-A369C95F6A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81638-4DBB-4F98-B7A6-DD7DC7994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671D3-496D-440C-8A75-B42491212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A5E3A-5BB7-4BE2-945B-02B185C093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6F037-A5D9-42CB-B78A-FABDF7AF0A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3C825-B0DF-46BA-9B09-6F47231414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87D56-542F-490E-8A6F-C00EDF2093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DEF32-3DCB-4B14-9177-5D0F7F3C42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19EEA-24D2-425E-A966-0E0DD78FE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2D09C-27F8-44C4-9B44-751C8ED65F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06B0F-787B-4F8F-A856-0FAEE41F97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5A8B9-9B2B-4CC4-A0C8-010E55BE1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D5C1-844B-49CB-9B4B-19596C7C0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792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890F-5BA6-4C38-942F-5E9A6FA2A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Two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ganizational Learn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7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2-1.jpg"/>
          <p:cNvPicPr/>
          <p:nvPr/>
        </p:nvPicPr>
        <p:blipFill>
          <a:blip r:embed="rId1"/>
          <a:stretch/>
        </p:blipFill>
        <p:spPr>
          <a:xfrm>
            <a:off x="2357280" y="2857680"/>
            <a:ext cx="426744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545C-2677-457C-B27F-C67A9E2A2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9167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 of what is known; a body of truths, information, and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und in the minds of employees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nsferred and stored in systems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2-10.jpg"/>
          <p:cNvPicPr/>
          <p:nvPr/>
        </p:nvPicPr>
        <p:blipFill>
          <a:blip r:embed="rId1"/>
          <a:stretch/>
        </p:blipFill>
        <p:spPr>
          <a:xfrm>
            <a:off x="3714840" y="3786120"/>
            <a:ext cx="34765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F647-679C-4739-B034-E96142729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91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than just information! It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formation that has been ed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ut into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alyzed in a way that makes it meaningful, and therefore valuable to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AF43-DCDD-4DE5-B3B9-148F2791D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Knowledg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ledge can be grouped in two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icit Knowledg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ings that you can buy or trade, such as patents or copyrights and other forms of intellectual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428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written into procedures                           or coded into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428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ransferred fairly accu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428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20% of corporate                           knowledg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2-12.jpg"/>
          <p:cNvPicPr/>
          <p:nvPr/>
        </p:nvPicPr>
        <p:blipFill>
          <a:blip r:embed="rId1"/>
          <a:stretch/>
        </p:blipFill>
        <p:spPr>
          <a:xfrm>
            <a:off x="6286680" y="3357720"/>
            <a:ext cx="2571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EF23-125D-41C5-BEBD-E582E234A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Knowledg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cit Knowledg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luable wisdom learned from experience and insight that has been defined as intuition, know how, little tricks, and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% of corporate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ost impossible to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 known example: decision-making behaviour of dealers in financial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4A66-7A9F-4C1D-BC02-E312AFC01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tellectual Capital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n organization’s knowledge, experience, relationships, process discoveries, innovations, market presence, and community infl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2-14.jpg"/>
          <p:cNvPicPr/>
          <p:nvPr/>
        </p:nvPicPr>
        <p:blipFill>
          <a:blip r:embed="rId1"/>
          <a:stretch/>
        </p:blipFill>
        <p:spPr>
          <a:xfrm>
            <a:off x="2714760" y="3714840"/>
            <a:ext cx="352404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1619-05CC-40B3-A866-70385E72C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tellectual Capital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s like 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source of innovation and wealth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as to be formalized, captured, and leveraged to produce a more highly valued as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like other assets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t grows with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s recognized by many organizations as a valuable as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8903-79D2-4F8D-8BC4-6C76B2447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Intellectual Capital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Knowledge, skills, and abilities of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newal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ntellectual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2-16.jpg"/>
          <p:cNvPicPr/>
          <p:nvPr/>
        </p:nvPicPr>
        <p:blipFill>
          <a:blip r:embed="rId1"/>
          <a:stretch/>
        </p:blipFill>
        <p:spPr>
          <a:xfrm>
            <a:off x="2714760" y="3143160"/>
            <a:ext cx="34430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2A5E-B16B-487A-BCE4-FD7CA6C13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Intellectual Capital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al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Formal systems and informal relationships that allow employees to communicate, solve problems, and make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onship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Organization’s relationships with suppliers, customers, and competitors that influence how they do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366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mer Capit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Value of an organization’s relationships with its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41FB-7012-4EFA-A272-0DE3399EA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tellectual Capital – Tying it all Together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s more investments are made in human capital, the employees are more capable &amp; committed to increasing renewal &amp; structural capital, leading to more productive relationship capital, resulting in better financial performance.”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2-18.jpg"/>
          <p:cNvPicPr/>
          <p:nvPr/>
        </p:nvPicPr>
        <p:blipFill>
          <a:blip r:embed="rId1"/>
          <a:stretch/>
        </p:blipFill>
        <p:spPr>
          <a:xfrm>
            <a:off x="3143160" y="4000680"/>
            <a:ext cx="342900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7431-055D-4A84-B923-A4522F1FC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Knowledge Management  Practic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nvolves the creation, collection, storage, distribution, &amp; application of compiled ‘know what’ and ‘know how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Management/Infrastructure refers to systems and structures that integrate people, processes, and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y is this import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5A62-226D-4AF8-AF90-E5D72AB7A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organizational learning and describe a learning orga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five disciplines and the principles of a learning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four dimensions critical for creating and sustaining a learning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knowledge and give examples of explicit and tacit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meaning and types of intellectual ca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A08F-8A1D-4B2A-B6AA-6AB6194EF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Knowledge Management  Practic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sure that important knowledge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available to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2-20.jpg"/>
          <p:cNvPicPr/>
          <p:nvPr/>
        </p:nvPicPr>
        <p:blipFill>
          <a:blip r:embed="rId1"/>
          <a:stretch/>
        </p:blipFill>
        <p:spPr>
          <a:xfrm>
            <a:off x="4218120" y="2286000"/>
            <a:ext cx="4925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911B-2100-4999-827C-02034F55D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Acquisition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Knowledg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Environment sc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includes individuals, teams, department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rn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includes sources of information from other organizations, customers, industry watcher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FF02-8C0F-4562-B7C4-DB72E9673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Acquisi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Formal learning (training and developmen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part of the knowledge-acquisi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ely 30 % of how employees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Informal lear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ely 70 % of how employees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rial &amp; err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ntaneous, immediate and task-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629A-C684-4642-86B6-758FB0476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Acquisi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95280" y="2349360"/>
          <a:ext cx="8380440" cy="3845160"/>
        </p:xfrm>
        <a:graphic>
          <a:graphicData uri="http://schemas.openxmlformats.org/drawingml/2006/table">
            <a:tbl>
              <a:tblPr/>
              <a:tblGrid>
                <a:gridCol w="1504800"/>
                <a:gridCol w="3778560"/>
                <a:gridCol w="3097080"/>
              </a:tblGrid>
              <a:tr h="52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l Lear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l Lear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led by organiz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led by learn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va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ay between learning and use of knowledge ac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ing used immediately on-the-jo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ctu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ly structu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tructu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com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pecif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73"/>
          <p:cNvSpPr/>
          <p:nvPr/>
        </p:nvSpPr>
        <p:spPr>
          <a:xfrm>
            <a:off x="395280" y="155736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omparing Formal and Informal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AC51-495A-446B-AF8D-BB8B24719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Acquisi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Communities of Pract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s of people with common interests and concerns who meet regularly to share their experiences and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from each other and identify new approaches for working and solving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is social and people learn from each other while working on the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AD65-61B7-4561-AB55-44F24E9F9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Acquisition</a:t>
            </a: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80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ccording to Wenger and Lave, Communities of Practice have three characteristic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00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(shared inter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00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(interaction, discussion, sha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00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(practitioners with resources to sh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345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informal, self-organizing, and form naturally but they can be created, fostered, and nurtured i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C0EB-9887-455D-815D-B2A9E4D5E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Interpret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ledge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ental models are deeply engrained assumptions, generalizations, or images that influence how we understand the world and how we tak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 effective way to develop shared mental models is to establish teams to stimulate work-related learning, solving real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06CF-BA9B-49D6-8F09-5DBAB04D6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Dissemin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Knowledge Disse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ving ideas requires a different set of ski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quires systems for sharing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nd Communication Technology (I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codification of knowledge; that is, its transformation into information that can be easily transmit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proposals, spreadsheets, presentations, specifications,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A738-36B6-4FFD-9E83-79B52C62B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Knowledge Dissemin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729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Intranet: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ritical component for managing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mployee questions can be answered in hours instead of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an be like an instant c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2-28.jpg"/>
          <p:cNvPicPr/>
          <p:nvPr/>
        </p:nvPicPr>
        <p:blipFill>
          <a:blip r:embed="rId1"/>
          <a:stretch/>
        </p:blipFill>
        <p:spPr>
          <a:xfrm>
            <a:off x="5429160" y="4214880"/>
            <a:ext cx="306252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DA16-1471-46A3-94B4-90C30FA03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Knowledge Reten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ledge Re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nowledge repositories are inventories of knowledge that organizations compile and store, which can be easily retriev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repositories are more informal lists of lessons learned, white papers, presentation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have links to the originator of the docu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all are based on computer technology: oral histories transcribed, video taped presentation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469B-760D-4919-A37B-E3498525B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knowledge management and how knowledge is acquired, interpreted, disseminated, and retained i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informal learning and describe how organizations can facilita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communities of practice and describe what organizations can do to creat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multilevel systems model of organization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organizational learning  and training and development are conn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332C-F190-4807-A34C-6059A056C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23"/>
          <p:cNvSpPr/>
          <p:nvPr/>
        </p:nvSpPr>
        <p:spPr>
          <a:xfrm>
            <a:off x="2209680" y="3352680"/>
            <a:ext cx="4572000" cy="1143000"/>
          </a:xfrm>
          <a:prstGeom prst="ellipse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Leve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24"/>
          <p:cNvSpPr/>
          <p:nvPr/>
        </p:nvSpPr>
        <p:spPr>
          <a:xfrm>
            <a:off x="2209680" y="5029200"/>
            <a:ext cx="4572000" cy="1143000"/>
          </a:xfrm>
          <a:prstGeom prst="ellipse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Leve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20"/>
          <p:cNvSpPr/>
          <p:nvPr/>
        </p:nvSpPr>
        <p:spPr>
          <a:xfrm>
            <a:off x="2209680" y="1600200"/>
            <a:ext cx="4572000" cy="1143000"/>
          </a:xfrm>
          <a:prstGeom prst="ellipse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al Leve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ultilevel Systems Model</a:t>
            </a:r>
            <a:br>
              <a:rPr sz="4000"/>
            </a:b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1" name="AutoShape 15"/>
          <p:cNvSpPr/>
          <p:nvPr/>
        </p:nvSpPr>
        <p:spPr>
          <a:xfrm>
            <a:off x="3429000" y="2666880"/>
            <a:ext cx="485640" cy="762120"/>
          </a:xfrm>
          <a:prstGeom prst="upArrow">
            <a:avLst>
              <a:gd name="adj1" fmla="val 50000"/>
              <a:gd name="adj2" fmla="val 39233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6"/>
          <p:cNvSpPr/>
          <p:nvPr/>
        </p:nvSpPr>
        <p:spPr>
          <a:xfrm>
            <a:off x="4800600" y="2743200"/>
            <a:ext cx="485640" cy="671400"/>
          </a:xfrm>
          <a:prstGeom prst="downArrow">
            <a:avLst>
              <a:gd name="adj1" fmla="val 50000"/>
              <a:gd name="adj2" fmla="val 34563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17"/>
          <p:cNvSpPr/>
          <p:nvPr/>
        </p:nvSpPr>
        <p:spPr>
          <a:xfrm>
            <a:off x="3476520" y="4419720"/>
            <a:ext cx="486000" cy="685800"/>
          </a:xfrm>
          <a:prstGeom prst="upArrow">
            <a:avLst>
              <a:gd name="adj1" fmla="val 50000"/>
              <a:gd name="adj2" fmla="val 35278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8"/>
          <p:cNvSpPr/>
          <p:nvPr/>
        </p:nvSpPr>
        <p:spPr>
          <a:xfrm>
            <a:off x="4800600" y="4495680"/>
            <a:ext cx="485640" cy="595440"/>
          </a:xfrm>
          <a:prstGeom prst="downArrow">
            <a:avLst>
              <a:gd name="adj1" fmla="val 50000"/>
              <a:gd name="adj2" fmla="val 30652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5"/>
          <p:cNvSpPr/>
          <p:nvPr/>
        </p:nvSpPr>
        <p:spPr>
          <a:xfrm>
            <a:off x="155160" y="4767120"/>
            <a:ext cx="210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Figure 2.1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569E-F2EC-483F-809C-DE45B5A35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ultilevel Systems Model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ational leve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 environment for learning and the acquisition and exchange of knowledge and inform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p level learning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opportunity for groups to interact, communicate, and share inform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Individual leve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dividuals must have formal and informal opportunities for learning. Learning and the transfer of knowledge and information must be reward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19F4-A43F-47A7-B7AD-080BEB9C1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rganizational Learning and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ection Between Organizational Learning and Training an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&amp; Development is an important element of organization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Organizations exceed other organizations in terms of both training practices and expendi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ey element of organizational learning is individu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22C6-34F9-44D3-88B9-97D59EAAF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&amp;D and Organizational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2590920" y="1846440"/>
            <a:ext cx="3809880" cy="1143000"/>
          </a:xfrm>
          <a:prstGeom prst="rect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&amp;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2590920" y="4876920"/>
            <a:ext cx="3809880" cy="1143000"/>
          </a:xfrm>
          <a:prstGeom prst="rect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a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2556000" y="3363840"/>
            <a:ext cx="3816360" cy="1143000"/>
          </a:xfrm>
          <a:prstGeom prst="rect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AutoShape 11"/>
          <p:cNvCxnSpPr>
            <a:stCxn id="198" idx="3"/>
            <a:endCxn id="199" idx="3"/>
          </p:cNvCxnSpPr>
          <p:nvPr/>
        </p:nvCxnSpPr>
        <p:spPr>
          <a:xfrm flipH="1" flipV="1">
            <a:off x="6379560" y="3935160"/>
            <a:ext cx="29160" cy="1513440"/>
          </a:xfrm>
          <a:prstGeom prst="bentConnector3">
            <a:avLst>
              <a:gd name="adj1" fmla="val -771250"/>
            </a:avLst>
          </a:prstGeom>
          <a:ln w="255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01" name="AutoShape 12"/>
          <p:cNvCxnSpPr>
            <a:stCxn id="198" idx="3"/>
            <a:endCxn id="197" idx="3"/>
          </p:cNvCxnSpPr>
          <p:nvPr/>
        </p:nvCxnSpPr>
        <p:spPr>
          <a:xfrm flipV="1">
            <a:off x="6408720" y="2417400"/>
            <a:ext cx="2160" cy="3031200"/>
          </a:xfrm>
          <a:prstGeom prst="bentConnector3">
            <a:avLst>
              <a:gd name="adj1" fmla="val 13900000"/>
            </a:avLst>
          </a:prstGeom>
          <a:ln w="255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202" name="Line 14"/>
          <p:cNvSpPr/>
          <p:nvPr/>
        </p:nvSpPr>
        <p:spPr>
          <a:xfrm>
            <a:off x="4356000" y="2997360"/>
            <a:ext cx="0" cy="36036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5"/>
          <p:cNvSpPr/>
          <p:nvPr/>
        </p:nvSpPr>
        <p:spPr>
          <a:xfrm>
            <a:off x="4356000" y="4508640"/>
            <a:ext cx="0" cy="36036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9359-02EC-48D2-8DF6-FA4AE59AE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meaning and importance of learning in organizations and the management of knowledge were discuss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five disciplines and principles of a learning organization were described as well as four dimensions necessary for creating and sustaining a learning organiz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fferent types of knowledge in organizations and intellectual capital were discuss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nowledge management practices were describ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ultilevel systems model was described and connection of organizational learning to training and develop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8CCA-1212-4D82-8FBA-B589906FE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rganizational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638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of creating, sharing, diffusing, and applying knowledge i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406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simply a focus on current needs or deficiencies, but a look to continuous l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406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lead to a Learning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2-4.jpg"/>
          <p:cNvPicPr/>
          <p:nvPr/>
        </p:nvPicPr>
        <p:blipFill>
          <a:blip r:embed="rId1"/>
          <a:stretch/>
        </p:blipFill>
        <p:spPr>
          <a:xfrm>
            <a:off x="5715000" y="1571760"/>
            <a:ext cx="308124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A451-853C-4726-B947-6C0AAC2E2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Learning Organiz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507680"/>
            <a:ext cx="880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n organization that acquires, organizes, and shares information &amp; knowledge, and uses new information and knowledge to change its behaviour in order to achieve its objectives and improve its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le to transform itself by acquiring and disseminating new knowledge and skills throughout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495B-039B-46D8-8768-5489AE4CE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Learning Organiz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91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Has enhanced capacity to learn, adapt, and change its cult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Has ability to make sense of, and respond to, surrounding enviro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results in continual improvements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re successful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2-6.jpg"/>
          <p:cNvPicPr/>
          <p:nvPr/>
        </p:nvPicPr>
        <p:blipFill>
          <a:blip r:embed="rId1"/>
          <a:stretch/>
        </p:blipFill>
        <p:spPr>
          <a:xfrm>
            <a:off x="5786280" y="3571920"/>
            <a:ext cx="171792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0EFE-181E-4C5A-AD45-27C70DA7A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Learning Organiz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ve Discipli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Mas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a Shared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 Thin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FFE8-EB40-490D-A235-A73F18050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Principles of a Learning Organiz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495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verybody considered a lear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ople learn from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arning is part of a chang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inuous formal and inform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arning is an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2-8.jpg"/>
          <p:cNvPicPr/>
          <p:nvPr/>
        </p:nvPicPr>
        <p:blipFill>
          <a:blip r:embed="rId1"/>
          <a:stretch/>
        </p:blipFill>
        <p:spPr>
          <a:xfrm>
            <a:off x="5143680" y="3000240"/>
            <a:ext cx="365112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8506-88D7-4F72-8421-A9DA327B8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ey Dimensions of a Learning Organiz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arning Systems/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nowledge Management/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(According to Conference Board of Canada - Table 2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8:16:27Z</dcterms:modified>
  <cp:revision>194</cp:revision>
  <dc:subject>Saks and Haccoun 5 ed</dc:subject>
  <dc:title>Ch 2</dc:title>
</cp:coreProperties>
</file>